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3076-BB30-4975-9629-63ADC2CF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E87F-7CF0-4E1C-8A91-562D0369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B4B3-56F6-4701-9C82-C82B55F1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3EDE-4468-48AE-9627-20769A4A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6739-B15D-4C4B-B72E-6AA6C60A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BEC8-A445-4775-9DF1-F411CAE3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8869-E18C-4EA7-823C-5FA7D273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91E9-9060-4185-B343-B6928E50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23DC-0FDA-4301-A924-47899201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0C5E-1037-4D05-8823-3C064867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252F-88CF-4C48-83BA-D518E82E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764-7858-43CE-8E43-5E88C85D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A1DE-7576-4B4D-B3B0-B807CE4D3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4640"/>
            <a:ext cx="1835280" cy="151164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981000"/>
            <a:ext cx="6264360" cy="358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28000" y="404640"/>
            <a:ext cx="1116000" cy="37450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4149720"/>
            <a:ext cx="216000" cy="93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5084640"/>
            <a:ext cx="684360" cy="216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3429000"/>
            <a:ext cx="2232000" cy="2664000"/>
          </a:xfrm>
          <a:prstGeom prst="ellipse">
            <a:avLst/>
          </a:prstGeom>
          <a:solidFill>
            <a:srgbClr val="17e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47640" y="4365720"/>
            <a:ext cx="50328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763640" y="3429000"/>
            <a:ext cx="0" cy="936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4653000"/>
            <a:ext cx="720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63640" y="4941720"/>
            <a:ext cx="0" cy="1008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84360" y="4653000"/>
            <a:ext cx="863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5950080"/>
            <a:ext cx="3348000" cy="765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u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43480" y="4529160"/>
            <a:ext cx="95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6165720"/>
            <a:ext cx="1871640" cy="69228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bbis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6381720"/>
            <a:ext cx="133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63640" y="1700280"/>
            <a:ext cx="216000" cy="36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260280"/>
            <a:ext cx="1873080" cy="144360"/>
          </a:xfrm>
          <a:prstGeom prst="ellipse">
            <a:avLst/>
          </a:prstGeom>
          <a:solidFill>
            <a:srgbClr val="17e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95640" y="59500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6000" y="404640"/>
            <a:ext cx="2156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19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2276640"/>
            <a:ext cx="14436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484360" y="1413000"/>
            <a:ext cx="1895400" cy="990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284720" y="1413000"/>
            <a:ext cx="1895400" cy="99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84720" y="1413000"/>
            <a:ext cx="1895760" cy="990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916360" y="1989000"/>
            <a:ext cx="865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1989000"/>
            <a:ext cx="28728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484000" y="2133720"/>
            <a:ext cx="792360" cy="13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979280" y="371628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627280" y="2133720"/>
            <a:ext cx="936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050920" y="3860640"/>
            <a:ext cx="433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1547280" y="414972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4076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ilm"/>
          <p:cNvSpPr/>
          <p:nvPr/>
        </p:nvSpPr>
        <p:spPr>
          <a:xfrm rot="5400000">
            <a:off x="5010480" y="397440"/>
            <a:ext cx="1008000" cy="2895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1557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1636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5928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11640" y="1700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11640" y="2133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40360" y="198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1640" y="184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242100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16360" y="278136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3213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386064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9272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3564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8000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2436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48360" y="17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48360" y="1916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48360" y="2060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17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84720" y="1989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472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84720" y="2133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4720" y="2060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84720" y="1844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2764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1628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9640" y="1557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08720" y="5157720"/>
            <a:ext cx="11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604360" y="5300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44000" y="59500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32720" y="3429000"/>
            <a:ext cx="107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41497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2781360"/>
            <a:ext cx="192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sewage system that takes the dirty stuff out and separates the clean water in a big bucket. The dirty water  will go to the rubbish bu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19280" y="2852640"/>
            <a:ext cx="288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2276640"/>
            <a:ext cx="14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ning wh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11640" y="404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 pan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48360" y="692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348000" y="620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348000" y="40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23:20:24Z</dcterms:created>
  <dc:creator>Primary School</dc:creator>
  <dc:description/>
  <dc:language>en-US</dc:language>
  <cp:lastModifiedBy>Primary School</cp:lastModifiedBy>
  <dcterms:modified xsi:type="dcterms:W3CDTF">2009-06-10T00:47:18Z</dcterms:modified>
  <cp:revision>3</cp:revision>
  <dc:subject/>
  <dc:title>Slide 1</dc:title>
</cp:coreProperties>
</file>